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9491433"/>
        <c:axId val="5994784"/>
      </c:barChart>
      <c:catAx>
        <c:axId val="2949143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94784"/>
        <c:crosses val="autoZero"/>
        <c:auto val="1"/>
        <c:lblAlgn val="ctr"/>
        <c:lblOffset val="100"/>
        <c:noMultiLvlLbl val="0"/>
      </c:catAx>
      <c:valAx>
        <c:axId val="599478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49143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B9D86-CE3E-4111-8DD6-B7F8BE006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E00E2-2991-4721-B849-8548AA06E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D5DC8-D94D-4374-A1C8-78AD99A12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349D2-45E3-4F21-A819-8F6F47ED8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2897F-4466-499F-90D2-CCA91962C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03F49-5374-4C29-A9D3-B510EB08D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87651-27B3-48E8-B9D9-95919B9B5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007A0-F6D1-42CE-9B1A-3A23F3CB7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DDBA9-E18F-4AAC-AA34-16B9F8609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EF865-CD16-4E66-A106-E23E641F1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5AAEE-146E-4ACD-A3A7-6BBFC2097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CD210-22BE-4FD1-8F31-4291074D5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70932F-9CC7-492E-BA19-A70664EE24C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